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5810-1777-422A-9FDE-329B7F245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8CEF-D91B-41F0-BAFA-4BDF6CC9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1991-ADB0-4EEE-81BA-B8D328BDC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D9B0-28EC-42F0-A512-D4B0CEB42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9D9D-6410-4B36-B27F-ED5CE096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5E25-C4BC-46E3-B904-6467D165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4925-1FC4-421B-A924-623D92C3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E339-8127-4CC9-A1D3-2E35D698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2074-BEA7-4A01-996A-2B3573FC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BBDD-6BF9-4D9D-A1E8-C36B1A09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A30B-3FE1-46ED-AF5D-ABB25081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4AD9-9E7B-42DB-B3A0-302411D9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F1B7-AAB0-4841-A647-AE48867D4592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TL8712(8188_8191_8192SU) USB Linux Driver Quick Installation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oftware Pack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712 linux driver (source c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 support linux kernel version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712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-Based Linux platform (i38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712 USB Linux driver supports Linux kernel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rom 2.6.18 ~ 2.6.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- TO: Setting up Linux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Demonstration based on Linux Fedora 2.6.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make 8712 USB Linux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1) step1: uncompress the “rtl8712_8188_8191_8192SU_usb_linux_v2.6.x.x.2010xxxx.tar.gz” file. (in “driver” direc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tar zxvf</a:t>
            </a:r>
            <a:r>
              <a:rPr b="0" i="1" lang="zh-TW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rtl8712_8188_8191_8192SU_usb_linux_v2.6.6.0.20100930.tar.g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make 8712 USB driver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3) step3: clean the operation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./c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4) step4: insert 8712 USB mod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insmod 8712u.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5) step5: enable wlan0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fconfig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wlan0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6) step6: setup I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fconfig wlan0 192.168.1.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art 2: Site Survey &amp; connect to AP without secu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tep1: Sit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list wlan0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Connect to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config wlan0 essid “xx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  connect to AP using "Network Manager" GUI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Network Manager is a utility attempts to make use of wireless networking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please disable the “Network Manager” when using command-line method to connect to AP, because the “Network Manager” will conflict with the method of command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16:25:06Z</dcterms:created>
  <dc:creator>TIGER-XP</dc:creator>
  <dc:description/>
  <dc:language>en-US</dc:language>
  <cp:lastModifiedBy>albert_wang</cp:lastModifiedBy>
  <dcterms:modified xsi:type="dcterms:W3CDTF">2010-09-30T11:16:10Z</dcterms:modified>
  <cp:revision>102</cp:revision>
  <dc:subject/>
  <dc:title>投影片 1</dc:title>
</cp:coreProperties>
</file>